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CB93-6DA0-4C74-8654-25EA2469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8862-715D-4DEE-A36C-D8D54BAA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C7CF-1056-4520-B209-E838CC9A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59A-30DE-4C61-9F01-B1A8DD38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38C-E306-4638-A9B2-6DA4D5A1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88BE-4CAE-4394-AC9B-F3E847A5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9F5E-4FEA-4B43-B76B-77909679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0D4-5A4C-47A0-80FE-EDD4A23E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569-143C-4CF8-AEB5-D37A5463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6867-5B9F-4824-A72F-905E8720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666-FA73-4574-989B-7D2C0126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ECC-A1BE-4313-B5AA-C6A68381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73DD-525C-4B5E-9FDF-85277BA6B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ff00"/>
                </a:solidFill>
                <a:latin typeface="Arial"/>
              </a:rPr>
              <a:t>Conversation class id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4000" y="702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T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n you draw?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hat is hanging on your walls at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ff00"/>
                </a:solidFill>
                <a:latin typeface="Arial"/>
              </a:rPr>
              <a:t>Create interest/activate sche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Arial"/>
              </a:rPr>
              <a:t>Pre teach voc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2555640" cy="2260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35280" y="1125360"/>
            <a:ext cx="1714680" cy="2676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12000" y="14130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4000" y="4365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348000" y="4221000"/>
            <a:ext cx="2419560" cy="1886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012000" y="3789360"/>
            <a:ext cx="29620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t the Gall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ou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rief description of what you can see in the pi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hat materials were used and w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y symbolism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period in which the picture was painted and its effect on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uicy details about the artist´s life at tha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00"/>
                </a:solidFill>
                <a:latin typeface="Arial"/>
              </a:rPr>
              <a:t>Scaffolding/planning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bat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he government really shouldn´t be spending money on aesthetics in the midst of a financial crisis</a:t>
            </a:r>
            <a:br>
              <a:rPr sz="4000"/>
            </a:br>
            <a:r>
              <a:rPr b="0" lang="es-ES" sz="2800" spc="-1" strike="noStrike">
                <a:solidFill>
                  <a:srgbClr val="00ff00"/>
                </a:solidFill>
                <a:latin typeface="Arial"/>
              </a:rPr>
              <a:t>Reflective stage-allows students to respond personally to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987640" y="981000"/>
            <a:ext cx="2881440" cy="2621160"/>
            <a:chOff x="2987640" y="981000"/>
            <a:chExt cx="2881440" cy="26211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2987640" y="981000"/>
              <a:ext cx="2881440" cy="26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2987640" y="981000"/>
              <a:ext cx="2881440" cy="2621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8:14:37Z</dcterms:created>
  <dc:creator>HBeardsworth</dc:creator>
  <dc:description/>
  <dc:language>en-US</dc:language>
  <cp:lastModifiedBy>HBeardsworth</cp:lastModifiedBy>
  <dcterms:modified xsi:type="dcterms:W3CDTF">2011-03-30T18:56:36Z</dcterms:modified>
  <cp:revision>4</cp:revision>
  <dc:subject/>
  <dc:title>Conversation class ideas</dc:title>
</cp:coreProperties>
</file>